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pct" ContentType="image/x-pict"/>
  <Override PartName="/ppt/media/image6.jpeg" ContentType="image/jpeg"/>
  <Override PartName="/ppt/media/image7.gif" ContentType="image/gif"/>
  <Override PartName="/ppt/media/image8.jpeg" ContentType="image/jpeg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13B2-EBBC-42DE-A018-2A2568C4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1F0-269B-4723-BBA7-64D0DB32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25B-AD15-44B8-8530-E886B0C1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B5A-19C1-49E6-84B6-BBC79E5C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A18E-168B-4CC8-B8BF-B185EBF5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E336-DE18-4F72-A43E-C768D795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4A0B-582C-4A54-9335-3B6A632D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06C4-E55D-4DB9-8EDF-CA57ED55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8FAD-5776-4E00-AD43-2ED8AD68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0303-948F-4B8B-87C1-BEB7755B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C726-B948-42EF-83AD-0925BE62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6E0-64EF-4C45-A919-872F78E1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06BC-4053-45A9-A988-C70ABD54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4FC1-BD87-4309-9777-8EBA1423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8E4D-3504-447B-B36E-82D5CA80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0005-B633-4813-B63A-DAA7C413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0D6A-555B-48D0-AEB1-D91C381D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C913-B74B-4FDB-B37F-CB206E8C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F00-2466-495A-BC93-67339808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9CB-F24A-49F1-AAD0-854216A7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4B48-C186-459A-A1DC-3B4C1BE3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C8F-2A4C-4652-8DF0-0DD5ECE9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2F4-6502-4E28-AA2D-708E8CF5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374-8474-4A49-977B-FE8587A9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9DAE-A487-426C-A602-4EBB57642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0920" y="3123720"/>
            <a:ext cx="487692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117F-F218-4ACA-BF73-C0383F8B3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70120" y="290844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lvl="2" marL="914400" algn="ctr">
              <a:spcBef>
                <a:spcPts val="400"/>
              </a:spcBef>
              <a:buClr>
                <a:srgbClr val="4d4d4d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1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3" marL="1371600" algn="ctr">
              <a:spcBef>
                <a:spcPts val="349"/>
              </a:spcBef>
              <a:buClr>
                <a:srgbClr val="4d4d4d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lvl="4" marL="1828800" algn="ctr">
              <a:spcBef>
                <a:spcPts val="349"/>
              </a:spcBef>
              <a:buClr>
                <a:srgbClr val="4d4d4d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0920" y="3123720"/>
            <a:ext cx="487692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Fraction Division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657240" y="464832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Opposite of Multiplication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Division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The order matters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When working word problems, be careful what order you write the problem.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The thing being split, cut, sorted, shared, divided, or grouped goes first.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How many pieces or how big goes second.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543800" y="990720"/>
            <a:ext cx="82872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hocolate is first as it is split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147240" indent="-14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otal divided by How Big is How  Many. 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147240" indent="-14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8 containers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819520" y="2057400"/>
            <a:ext cx="4381560" cy="503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85800" y="3886200"/>
                <a:ext cx="1504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51080" y="3886200"/>
                <a:ext cx="2214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37080" y="3886200"/>
                <a:ext cx="17953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762120" y="53352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Fran puts 5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lbs of chocolate in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lb containers.  How many contain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Arial Narrow"/>
              </a:rPr>
              <a:t>The Multiplicative Inverse:</a:t>
            </a:r>
            <a:endParaRPr b="0" lang="en-US" sz="5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Flip the numerator and denominator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Called the reciprocal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43800" y="990720"/>
            <a:ext cx="82872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1568520" y="3825720"/>
          <a:ext cx="2141640" cy="9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8520" y="3825720"/>
                    <a:ext cx="214164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o Divide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316224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vert the second number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ultiply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5448600" cy="62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286000" y="4724280"/>
                <a:ext cx="419112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Steps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Change Whole numbers and mixed numbers to improper fractions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Invert the second fraction (the divisor) and multiply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Cancel if you can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Multiply numerator by numerator and denominator by denominator.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31237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Narrow"/>
              </a:rPr>
              <a:t>Examples</a:t>
            </a: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22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4d4d4d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19320" y="533520"/>
                <a:ext cx="11700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77920" y="1981080"/>
                <a:ext cx="12542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274760" y="3505320"/>
                <a:ext cx="12114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43000" y="4876920"/>
                <a:ext cx="20048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4572000" y="2817720"/>
          <a:ext cx="4173480" cy="404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2817720"/>
                    <a:ext cx="417348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257800" y="3429000"/>
            <a:ext cx="2819520" cy="2895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22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819520" y="2057400"/>
            <a:ext cx="4381560" cy="503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990720" y="498600"/>
                <a:ext cx="1600200" cy="13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095480" y="1981080"/>
                <a:ext cx="14205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192320" y="3505320"/>
                <a:ext cx="1377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14400" y="4876920"/>
                <a:ext cx="24638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31237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Narrow"/>
              </a:rPr>
              <a:t>Word Problems</a:t>
            </a: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Commutative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Multiplication is commutative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3x4 = 4x3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Is division commutative?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NO!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543800" y="990720"/>
            <a:ext cx="82872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19:58:25Z</dcterms:created>
  <dc:creator>EITC </dc:creator>
  <dc:description/>
  <dc:language>en-US</dc:language>
  <cp:lastModifiedBy>Parkland High School</cp:lastModifiedBy>
  <dcterms:modified xsi:type="dcterms:W3CDTF">2010-10-12T12:16:50Z</dcterms:modified>
  <cp:revision>12</cp:revision>
  <dc:subject/>
  <dc:title>little italy</dc:title>
</cp:coreProperties>
</file>